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4E9-4824-42C2-91BB-B5345D13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526-1AAE-4426-AB76-D3A25AC1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8BB-01D1-4EE9-A2EC-F1945C65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859-6E62-4791-8A92-990A5F6C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560-A6AF-443E-A19B-631B1F10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CF4-CFB8-4944-A27E-AEF68773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060-CCA1-4B58-A033-4BC3C37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14D-6B84-4AC7-9613-756A7736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A82-016F-48FB-9581-0F57DA2F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004-CB59-411A-AC66-F21F6DE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2B0-CA17-4E32-BA7F-126D7B8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794-AB95-4F75-85B5-AF59CE0F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053-BA2A-4C9B-A955-2F9FC1C9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9:15:38Z</dcterms:created>
  <dc:creator>abeason</dc:creator>
  <dc:description/>
  <dc:language>en-US</dc:language>
  <cp:lastModifiedBy>abeason</cp:lastModifiedBy>
  <dcterms:modified xsi:type="dcterms:W3CDTF">2008-12-10T19:15:41Z</dcterms:modified>
  <cp:revision>1</cp:revision>
  <dc:subject/>
  <dc:title>Slide 1</dc:title>
</cp:coreProperties>
</file>